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F60-693D-41B2-87DD-513A8D2D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FA9-587F-4D20-80CB-9E23385C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237-F597-4B66-B5F2-818F3DBC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14E-5880-4D97-BA0C-BC9752D2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971-1F05-43B1-B7EA-33AC1B6F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B2CA-56AF-4B4F-968A-353E30B0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161-6DE6-4C9A-9627-41AE4ABF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5F9-230D-4291-9028-CE7CBEBE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999-C5FB-4C09-9716-96B2368D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5BC-2ABF-48FB-940A-32A73D37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52C-4204-4663-AC9F-85E85F02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DFF-BAEB-4ABE-BC23-A01E0187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881A-EAB7-4A07-A0A4-C0D188B27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74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izmus, utazás és a modern személyi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ízlés reflexivitása és a közvetít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-20. sz.: Nyugati társadalmakban a természeti és társadalmi környezetek értékeinek reflexivi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z részben ízlésítéletekre épül, és a mobilitás formáinak elterjedésén alap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gnövekedett mobilitás kozmopolita világszemléletet alakít 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urizmus szervezése elősegítette e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bilitás nagy jelentőségű az ízlés reflexivitása szempontjából, jelentősége ma is nő (kultúra, történelem, környez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ízlés reflexivitása és a közvetít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ztmodernitá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bizonyosság végét jel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egyének érzékelése, értelmezése és gyakorlata alapján végtelen sok rend létezhet, nincsenek általános érvényű törvény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rtelmiség feladata a különféle igazságok közvetítése, valamint lefordítása a kívülállók számára és az értelmezési területek közötti kommunikáció biztos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ízlés reflexivitása és a közvetít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zeknek megfelelően alakul a turisztikai szaktudá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itá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ányított érdeklőd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ztmodernitá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kféle érdeklődésre ösztönzés, ennek értelmezés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értelmezéssel foglalkozó külön, új „tudomány” fejlődik 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hetőségek bővülése a turizmus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zt-fordista fogyasztás, a turizmus vé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ársadalmi form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kapital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ális kapitaliz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ervezett kapitalizm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bomló kapitalizm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55640" y="1719360"/>
            <a:ext cx="4537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azási form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ervezett felfedez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kereskedelmi és nyitott vendégfogadás keverék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azdagok egyéni uta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nyitott kereskedelmi vendégfogadá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ervezett tömegturizm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somagok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„turizmus vé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nem anyagi javak termelése válik meghatározóvá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zt-fordista fogyasztás, a turizmus vé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lbomló kapitalizmus jellemző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ltúra dominanciá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gyasztás felértékelődése (globális és helyi szinten 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örnyezettudatos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izmus egyedisége elvesz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izmus adja a mintát a társadalmi és kulturális tapasztalatokh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zt-fordista fogyasztás, a turizmus vé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lbomló kapitalizmus jellemző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különülés csökkenése, jellegzetességek eltűn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dia ha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ltúra külső szemlélé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szvé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mberek mindinkább jeleket és képeket fogyaszta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mberek idejük nagy részében „turisták” (tényleges és virtuális mobilit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zt-fordista fogyasztás, a turizmus vé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zuális fogyasztá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izuális kultúra kiterjedt az élet minden területére, sokféle kontextusban, kultúrában jelenhet m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gyasztás ilyen szerepét az új középosztály alakítja 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étköznapi életet összekapcsolja a tudománnyal, kultúrával, művészette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zt-fordista fogyasztás, a turizmus vé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á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is valóság fellegvárainak kialakulása (bevásárlóközpont, kiállítások, nemzetiségi éttermek, stb.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ristaként való viselkedésre ösztönö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ő és tér rendkívüli koncentrációj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lobális miniatürizá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gyományos utazás már önmagában nem kielégítő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„extrém” szolgáltatások megjelenése (Lepra Múzeum, ködös kirándulás, katasztrófa-turizmu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Összeg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gyasztói igények változása miatt a hagyományos tömegturizmus leáldozó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 új, személyre szabott, szegmentált, rugalmas turizmus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ömegmarketingnek vég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ifinomultabb szegmentáció szüksé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dern személyiség jellemzője a mozg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dernitásban a helyváltoztatás jelentősége és jellege is megváltozo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kan foglalkoztak az új, rohanó életstílussal, az új formákkal, élménnyel és ezek hatása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chnika fejlődésével a hosszú távú közlekedés alapvetővé vá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utazás társadalmi szerve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 elég egyszerű determinizmussal élni, az utazás társadalmi szervezésének mélyebb elemzésére van szük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urizmus a modern személyiség alapvető változásait okoz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utazás társadalmi szerve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hoz, hogy a modern világ meghatározó részévé válhasson a turizmus, nem elegendő a technológiai fejlődés, éppen annyiira fontos az utazás-szervezés fejlődése 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orábbi elemzések ezzel nem foglalkozt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urisztikai szakma feladata pedig a modern élmény megszervezése, amihez ez szüksé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utazás társadalmi szerve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bilitás kevésbé kutatott tém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rosi területek közötti mobilitás szervező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nek a mozgásnak a hatása a személyisé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zdetben az újítások társadalmi szinten alakították az utazás természetét (T. Cook and Son, városi nagy szállodák, kempingek, szolgáltatás-kapcsolás, tömegturizm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utazás társadalmi szerve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aktudás fejlődésének másfajta következményei is vanna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zonyos hétköznapi tudások egy részének elvesztése (pl. gyalogl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szültség a szaktudás és az irodalmi ismeretek között (pl. útikönyv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emély vagy személyes természet lényege változik (pl. bizalmat ki kell érdemel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utazás társadalmi szerve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itá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 a mobilitás felgyorsult formái radikális hatást gyakorolnak az egyéni élmény-érzékelés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os lesz az időbeli szervezés, és lehetővé válik a különféle helyek összehasonl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ényege a teljes rendezettség, kontroll-keresés, természeti rend ismeretének folyamatos bővü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étrehozza a törvénykezés, kérdések eldöntésére hivatott értelmiséget; feladatuk a tömegek számára a kockázat csökkentése és bizalom kialak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ízlés reflexivitása és a közvetít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dernitás sokáig figyelmen kívül hagyott lényeges elem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lexivi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ársadalmi modernizációval az egyének egyre inkább megismerik, és képesek megérteni környezetüket, életfeltételei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gnitív~ : megismerő, észlel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tív ~ : előír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zlés ~ : érzések szintjén jelentkező társadalmi formák megkülönbözte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ízlés reflexivitása és a közvetít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z a jelenség leginkább az ízlés „kozmopolitává válásával” írható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nek alapvető feltétele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yfokú mobilit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itottsá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ckázat válla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1:07:45Z</dcterms:created>
  <dc:creator>Mayer Péter</dc:creator>
  <dc:description/>
  <dc:language>en-US</dc:language>
  <cp:lastModifiedBy>Mayer Péter</cp:lastModifiedBy>
  <dcterms:modified xsi:type="dcterms:W3CDTF">2007-04-27T11:08:42Z</dcterms:modified>
  <cp:revision>1</cp:revision>
  <dc:subject/>
  <dc:title>1. dia</dc:title>
</cp:coreProperties>
</file>